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D61-D4E8-444D-8CF4-7095E559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091-5921-4BBF-ABC5-AA44A11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C41-C83C-410C-8612-10AC302D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7A5-557B-4D70-A36A-4DE0B054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40F-0376-4C03-AD19-0969004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1B0-B9E2-4059-BA09-419F1E6B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5E7-A9C8-45B3-AC33-29C166E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014-866C-43CE-8C91-83A6DE0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6A2-3E66-4874-A0B6-185E8016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042-B2DC-4BEA-B095-FB0EA10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1F1-B701-49C9-B3CA-E6E4A8F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242-E163-4935-A31E-5ECB222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C9D-B133-4ECD-BA1C-4DCFEBFDEE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F643-E2EA-4445-9881-A40A1D63A7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"/>
          <p:cNvGrpSpPr/>
          <p:nvPr/>
        </p:nvGrpSpPr>
        <p:grpSpPr>
          <a:xfrm>
            <a:off x="1714680" y="2428920"/>
            <a:ext cx="5715360" cy="3786120"/>
            <a:chOff x="1714680" y="2428920"/>
            <a:chExt cx="5715360" cy="378612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rcRect l="0" t="0" r="0" b="13625"/>
            <a:stretch/>
          </p:blipFill>
          <p:spPr>
            <a:xfrm>
              <a:off x="1714680" y="3000240"/>
              <a:ext cx="3457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"/>
            <p:cNvPicPr/>
            <p:nvPr/>
          </p:nvPicPr>
          <p:blipFill>
            <a:blip r:embed="rId2"/>
            <a:stretch/>
          </p:blipFill>
          <p:spPr>
            <a:xfrm>
              <a:off x="3714840" y="3929040"/>
              <a:ext cx="318960" cy="1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"/>
            <p:cNvPicPr/>
            <p:nvPr/>
          </p:nvPicPr>
          <p:blipFill>
            <a:blip r:embed="rId3"/>
            <a:stretch/>
          </p:blipFill>
          <p:spPr>
            <a:xfrm>
              <a:off x="2857680" y="3929040"/>
              <a:ext cx="34884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"/>
            <p:cNvPicPr/>
            <p:nvPr/>
          </p:nvPicPr>
          <p:blipFill>
            <a:blip r:embed="rId4"/>
            <a:stretch/>
          </p:blipFill>
          <p:spPr>
            <a:xfrm>
              <a:off x="4715280" y="5715000"/>
              <a:ext cx="318960" cy="12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"/>
            <p:cNvPicPr/>
            <p:nvPr/>
          </p:nvPicPr>
          <p:blipFill>
            <a:blip r:embed="rId5"/>
            <a:stretch/>
          </p:blipFill>
          <p:spPr>
            <a:xfrm>
              <a:off x="2000160" y="5643720"/>
              <a:ext cx="348840" cy="137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" name="直接箭头连接符 12"/>
            <p:cNvCxnSpPr/>
            <p:nvPr/>
          </p:nvCxnSpPr>
          <p:spPr>
            <a:xfrm flipH="1" flipV="1">
              <a:off x="4033080" y="3992040"/>
              <a:ext cx="1896120" cy="100872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cxnSp>
          <p:nvCxnSpPr>
            <p:cNvPr id="48" name="直接箭头连接符 15"/>
            <p:cNvCxnSpPr/>
            <p:nvPr/>
          </p:nvCxnSpPr>
          <p:spPr>
            <a:xfrm flipH="1">
              <a:off x="5000040" y="5000760"/>
              <a:ext cx="929160" cy="78624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cxnSp>
          <p:nvCxnSpPr>
            <p:cNvPr id="49" name="直接箭头连接符 18"/>
            <p:cNvCxnSpPr/>
            <p:nvPr/>
          </p:nvCxnSpPr>
          <p:spPr>
            <a:xfrm flipH="1" flipV="1">
              <a:off x="4143240" y="3785400"/>
              <a:ext cx="1715040" cy="50076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pic>
          <p:nvPicPr>
            <p:cNvPr id="50" name="Picture 6" descr=""/>
            <p:cNvPicPr/>
            <p:nvPr/>
          </p:nvPicPr>
          <p:blipFill>
            <a:blip r:embed="rId6"/>
            <a:stretch/>
          </p:blipFill>
          <p:spPr>
            <a:xfrm>
              <a:off x="3214800" y="3286080"/>
              <a:ext cx="547560" cy="428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1" name="直接箭头连接符 22"/>
            <p:cNvCxnSpPr/>
            <p:nvPr/>
          </p:nvCxnSpPr>
          <p:spPr>
            <a:xfrm flipH="1">
              <a:off x="3862080" y="3357360"/>
              <a:ext cx="1924560" cy="2592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  <p:sp>
          <p:nvSpPr>
            <p:cNvPr id="52" name="矩形 28"/>
            <p:cNvSpPr/>
            <p:nvPr/>
          </p:nvSpPr>
          <p:spPr>
            <a:xfrm>
              <a:off x="6080400" y="3214440"/>
              <a:ext cx="1131480" cy="261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Calibri"/>
                </a:rPr>
                <a:t>一个单向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50W </a:t>
              </a:r>
              <a:r>
                <a:rPr b="0" lang="zh-CN" sz="1100" spc="-1" strike="noStrike">
                  <a:solidFill>
                    <a:srgbClr val="000000"/>
                  </a:solidFill>
                  <a:latin typeface="Calibri"/>
                </a:rPr>
                <a:t>车载喇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5858280" y="4143240"/>
              <a:ext cx="1214280" cy="261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Calibri"/>
                </a:rPr>
                <a:t>一组黄色箭头灯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30"/>
            <p:cNvSpPr/>
            <p:nvPr/>
          </p:nvSpPr>
          <p:spPr>
            <a:xfrm>
              <a:off x="5929920" y="4857840"/>
              <a:ext cx="1500120" cy="261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Calibri"/>
                </a:rPr>
                <a:t>红蓝爆闪灯等两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31"/>
            <p:cNvSpPr/>
            <p:nvPr/>
          </p:nvSpPr>
          <p:spPr>
            <a:xfrm>
              <a:off x="2428920" y="242892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安装示意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16"/>
          <p:cNvSpPr/>
          <p:nvPr/>
        </p:nvSpPr>
        <p:spPr>
          <a:xfrm>
            <a:off x="57168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为进一步降低公路养护作业的交通安全风险，拟对养护作业车辆进行安全改进，现要求各养护作业车须加装黄色箭头警示灯和红、蓝爆闪警示灯和车载喇叭喊话器。安装示意图如下所示，各指示灯及配件规格要求见下表。请各养护公司抓紧组织实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前完成所有养护作业车的安装，安装完成后报请辖区分局组织验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8760" y="838080"/>
          <a:ext cx="8286480" cy="5376960"/>
        </p:xfrm>
        <a:graphic>
          <a:graphicData uri="http://schemas.openxmlformats.org/drawingml/2006/table">
            <a:tbl>
              <a:tblPr/>
              <a:tblGrid>
                <a:gridCol w="785520"/>
                <a:gridCol w="1928880"/>
                <a:gridCol w="3541680"/>
                <a:gridCol w="2030400"/>
              </a:tblGrid>
              <a:tr h="72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规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图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车载喇叭喊话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单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；磁吸式；支持蓝牙连接；播放内容可编辑定制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T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卡播放等多种方式；车载电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车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箭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导向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对黄色箭头警示灯，控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个，支架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个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尺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cm*26cm*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车载爆闪警示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长方形二红二蓝爆闪灯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考尺寸：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c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×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c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×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4" descr=""/>
          <p:cNvPicPr/>
          <p:nvPr/>
        </p:nvPicPr>
        <p:blipFill>
          <a:blip r:embed="rId1"/>
          <a:srcRect l="0" t="0" r="48806" b="0"/>
          <a:stretch/>
        </p:blipFill>
        <p:spPr>
          <a:xfrm>
            <a:off x="6929280" y="5553000"/>
            <a:ext cx="157032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0" t="0" r="52094" b="-1198"/>
          <a:stretch/>
        </p:blipFill>
        <p:spPr>
          <a:xfrm>
            <a:off x="6929280" y="4838760"/>
            <a:ext cx="157176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858000" y="1623960"/>
            <a:ext cx="1766880" cy="15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6786720" y="3267000"/>
            <a:ext cx="18064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0:30:43Z</dcterms:created>
  <dc:creator>Administrator</dc:creator>
  <dc:description/>
  <dc:language>en-US</dc:language>
  <cp:lastModifiedBy>集结号</cp:lastModifiedBy>
  <dcterms:modified xsi:type="dcterms:W3CDTF">2022-03-28T09:14:01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1E52A539E48464D9B80D7F14362345A</vt:lpwstr>
  </property>
  <property fmtid="{D5CDD505-2E9C-101B-9397-08002B2CF9AE}" pid="3" name="KSOProductBuildVer">
    <vt:lpwstr>2052-11.1.0.11622</vt:lpwstr>
  </property>
</Properties>
</file>